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AAC-5161-40E5-B807-4CBA0E6F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DB6-4909-4359-9AB3-805A7EB6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46D-8DA9-4FA8-9F4B-DA344EAD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83A-DFF3-43AA-BEA2-39E5F446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AD3-432E-4B8E-A53C-9C72DD4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B49-F069-40BB-8F11-E66816D1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DDA-9A42-43D6-AC46-ED0AFC8D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D39-AC5E-4206-AFAA-620195B8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C5D-54D1-49C2-A766-D815A3C3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CD8-8C83-45AC-82B9-190D1E2D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C48-AAF9-4EF4-9EDA-829610A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C70-806F-4145-B73A-B0CE942A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24A0-009C-4F90-9332-D55758C740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365040" y="19224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 ASPECTOS  ÉTICOS  DA  PROFISSÃO  DE  ENGENHEIRO  DE  SEGURANÇA  DO  TRABALHO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" name="Text Box 1027"/>
          <p:cNvSpPr/>
          <p:nvPr/>
        </p:nvSpPr>
        <p:spPr>
          <a:xfrm>
            <a:off x="76320" y="1295280"/>
            <a:ext cx="87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ÉTICA  NO  SENTIDO  DE  CORRIGIR, ORIENTAR, CONSCIENTIZAR  OS  OUTROS  SEMPRE  QUE  OBSERVAR  UMA  IRREGUALRIDADE, NUNCA  SE  OMITIR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" name="Text Box 1028"/>
          <p:cNvSpPr/>
          <p:nvPr/>
        </p:nvSpPr>
        <p:spPr>
          <a:xfrm>
            <a:off x="76320" y="2971800"/>
            <a:ext cx="855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ÉTICA  NO  SENTIDO  DE  AGIR  COM  HONESTIDADE, DEFENDER  QUEM  TIVER  RAZÃO, EMPREGADOR  OU  EMPREGADO, ATENDER LEGISLAÇÃO E ACORDO COLETIVO DE TRABALHO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" name="Text Box 1029"/>
          <p:cNvSpPr/>
          <p:nvPr/>
        </p:nvSpPr>
        <p:spPr>
          <a:xfrm>
            <a:off x="76320" y="4740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ÉTICA  NO  SENTIDO  DE  SE  PREJUDICAR  A  SI  PRÓPRIO, QUANDO FOR  O  CULPADO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Text Box 1030"/>
          <p:cNvSpPr/>
          <p:nvPr/>
        </p:nvSpPr>
        <p:spPr>
          <a:xfrm>
            <a:off x="76320" y="565452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ÉTICA  NO  SENTIDO  SE APERFEIÇOAR,  SE CORRIGIR, APRENDER, DESENVOLVER...  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3459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1. Basear-se em Normas Nacionais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Quando não existir, utilizar Norma internacionai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00" y="175248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2. Propor pagamento do Adicional de Insalubridade, quando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não existir medida capaz de solucionar o problema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-720" y="3124080"/>
            <a:ext cx="85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3. O Eng. de Segurança do Trabalho tem o dever de elaborar o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Plano de Trabalho, contendo cronograma de atividades e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responsabilidades para realização das medidas necessárias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93640" y="42228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ff"/>
                </a:solidFill>
                <a:latin typeface="Times New Roman"/>
              </a:rPr>
              <a:t>CÓDIGO  DE  ÉTICA  PROFISSIONAL  DO  ENGENHEIRO,  DO  ARQUITETO  E  DO  ENGENHEIRO  AGRÔNOMO. 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41360" y="2606760"/>
            <a:ext cx="870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ff"/>
                </a:solidFill>
                <a:latin typeface="Times New Roman"/>
              </a:rPr>
              <a:t>REFERE-SE  A  ATRIBUIÇÃO  DA  LEI  N º 5.194  DE  24.12.66, CONFORME  RESOLUÇÃO  N º 205, DE 30.09.71 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46880" y="1522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Código de Ética Profissional do Engenheiro ( página 59)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1.) Interessar-se pelo bem público e com tal finalidade contribuir com seus conhecimentos, capacidade e experiência para melhor servir a humanidade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1676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2.) Considerar a profissão como alto título de honra e não praticar nem  permitir a prática de atos que comprometem a sua dign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28195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3.) Não cometer ou contribuir para que se cometam injustiças contra coleg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0" y="3581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4.) Não praticar qualquer ato que, direta ou indiretamente, possa prejudicar legítimos interesses de outros profiss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43434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5.) Não solicitar nem submeter propostas contendo condições que constituam competição de preços por serviços profissionais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0" y="54514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6.) Atuar dentro da melhor técnica e do mais elevado espírito público devendo, quando Consultor, limitar seus pareceres às matérias específicas que tenham sido objeto da consulta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89080" y="0"/>
            <a:ext cx="86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7. Exercer o Trabalho com lealdade, dedicação e honestidade com seus clientes e empregadores ou chefes, e com espírito de justiça e equidade para com os contratantes e empreiteiros.   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89080" y="1600200"/>
            <a:ext cx="86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8. Ter sempre em vista o bem-estar e o progresso funcional dos seus empregados ou subordinados e tratá-los com retidão, justiça e humanidade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4920" y="2867040"/>
            <a:ext cx="855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9. Colocar-se a par da legislação que rege o exercício profissional da Engenharia, da Arquitetura e da Agronomia, visando a cumprí - la corretamente e colaborar para a sua atualização e aperfeiçoamento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89080" y="461340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Obs.: Vide complementação referente a “ Guia do Profissional da Engenharia, da Arquitetura, e da Agronomia para a aplicação do Código de Ética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0" y="838080"/>
            <a:ext cx="9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Ética é fazer para os outros, o mesmo que desejamos para nós.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27080" y="171756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 Ética está ligada ao respeito humano, deveres e obrigaçõe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76760" y="248436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Exemplos de situações não éticas: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3094200"/>
            <a:ext cx="95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cumprir prazo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Pegar a idéia de outro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Tratar certas pessoas de forma diferent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Ver irregularidades nas empresas, e não tomar providência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dar atenção para certas pessoa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atender quem te procura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cumprir o que prometeu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insistir no cumprimento da legislação.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dar retorno do que foi pedido ou combinado.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176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7120" y="228600"/>
            <a:ext cx="815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O Engenheiro de Segurança do Trabalho, depara-se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com uma posição sujeita a conflitos, entre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empregadores e empregados, devendo o mesmo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ser sempre ser justo, imparcial.</a:t>
            </a: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33520" y="2133720"/>
            <a:ext cx="85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Arial"/>
              </a:rPr>
              <a:t>A contratação ou a dispensa de Engenheiros de Segurança, deveria ocorrer por um comum acordo entre empregados e empregadores.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Arial"/>
              </a:rPr>
              <a:t>A demissão de Eng. de Segurança do Trabalho não poderia ser arbitrária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09400" y="4740120"/>
            <a:ext cx="81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Não podemos esconder uma irregularidade da empresa, devemos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sempre contribuir para o bem da comunidad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Arial"/>
              </a:rPr>
              <a:t>Código de Conduta realizado através de entidades: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Arial"/>
              </a:rPr>
              <a:t>Associação Paulista de Engenheiros e Médicos de Saúde Ocupacional CREA, DRT, Sindicato dos Engenheiros do Estado de São Paulo, e outras.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18748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. O Eng. de Segurança do Trabalho, deve atuar na preservação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da integridade física, do patrimônio, e do meio ambiente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0" y="26319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. Reconhecer os riscos, trabalhar para minimizar os riscos e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eliminar desperdícios e contribuir para o aumento da produção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0" y="33940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3. Nas avaliações dos Projetos, incluir a prevenção p/ comunidad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0" y="3851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4. Deve ser imparcial, com relação ao empregador e empregado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0" y="4308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5. Enviar para a “DIRETORIA” da empresa as avaliações feitas, e as medidas propostas.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0" y="50292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6. Não aceitar cargos quando for proposto acúmulo de função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0" y="5527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7. Informar aos empregados os riscos e as medidas de control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0" y="6137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8. Realizar inspeções periódica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41400"/>
            <a:ext cx="95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9. Manter em sigilo informações confidenciais desde que não tragam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danos à integridade física dos funcionário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955800"/>
            <a:ext cx="83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0. Procurar aprimoramento dos conhecimentos profissionai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156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1. Ser justo, nos Laudos Periciais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0" y="19461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2. Em laudos ou relatórios, quando citar outro laudo, anexar o mesmo no seu documento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0" y="2784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3. Quando a pedido do Juiz, realizar uma perícia, quando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comprovado insalubridade ou periculosidade, o Eng. de Seg. Trab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tem o dever de propor medidas técnicas necessárias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0" y="4384800"/>
            <a:ext cx="85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4. O Eng. de Seg. Trab. Não deve apenas aceitar adicional de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insalubridade ou periculosidade...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0" y="5603760"/>
            <a:ext cx="73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5. Propor medidas de prevenção para a comunidade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27000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6. Assessorar a empresa na responsabilidade civil e criminal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em casos de acidente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1413000"/>
            <a:ext cx="90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7. O Eng. de Seg Trab. tem o direito de solicitar ao Conselho de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Classe Profissional um parecer técnico em caso de envolvimento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criminal por ocasião de um acidente grav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2784600"/>
            <a:ext cx="89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8. O Eng. Seg. Trab. só deverá responsabilizar-se pela empres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na função, quando realmente exercer a função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60" y="3733920"/>
            <a:ext cx="74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9. Na sua função deve participar da prevenção desde o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planejamento / projeto de uma obra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4917960"/>
            <a:ext cx="86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0. Nas avaliações realizadas, informar a Diretoria a realidade,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assim como as ações necessárias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11T16:01:35Z</dcterms:created>
  <dc:creator/>
  <dc:description/>
  <dc:language>en-US</dc:language>
  <cp:lastModifiedBy/>
  <dcterms:modified xsi:type="dcterms:W3CDTF">2021-07-11T16:01:41Z</dcterms:modified>
  <cp:revision>1</cp:revision>
  <dc:subject/>
  <dc:title/>
</cp:coreProperties>
</file>