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952-CBA4-4196-AAB1-155D55C9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FAB7-4774-4F86-95D5-B0483A81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3E8-E949-4FD1-8115-C0F4B754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4B4-6607-4E36-B903-16F9AA70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138-D195-4324-8EF0-76E2D34A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CE6-CB60-4D28-9D61-2BD4CDC1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114-DE74-447B-8634-B5B4FE36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DAB-448B-49F9-A60D-0B6E583D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8CC-D7A0-4C19-97F8-DE45C5CA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725-6FB7-4279-9F7B-ADABDC96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182-E25D-43FD-A302-C6A651B8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ADC-D7E6-4A08-8540-60B24299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B9E8-8BC2-424D-BE6E-4D79D2FD08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26"/>
          <p:cNvSpPr/>
          <p:nvPr/>
        </p:nvSpPr>
        <p:spPr>
          <a:xfrm>
            <a:off x="365040" y="19224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 ASPECTOS  ÉTICOS  DA  PROFISSÃO  DE  ENGENHEIRO  DE  SEGURANÇA  DO  TRABALHO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" name="Text Box 1027"/>
          <p:cNvSpPr/>
          <p:nvPr/>
        </p:nvSpPr>
        <p:spPr>
          <a:xfrm>
            <a:off x="76320" y="1295280"/>
            <a:ext cx="870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. ÉTICA  NO  SENTIDO  DE  CORRIGIR, ORIENTAR, CONSCIENTIZAR  OS  OUTROS  SEMPRE  QUE  OBSERVAR  UMA  IRREGUALRIDADE, NUNCA  SE  OMITIR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3" name="Text Box 1028"/>
          <p:cNvSpPr/>
          <p:nvPr/>
        </p:nvSpPr>
        <p:spPr>
          <a:xfrm>
            <a:off x="76320" y="2971800"/>
            <a:ext cx="855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ÉTICA  NO  SENTIDO  DE  AGIR  COM  HONESTIDADE, DEFENDER  QUEM  TIVER  RAZÃO, EMPREGADOR  OU  EMPREGADO, ATENDER LEGISLAÇÃO E ACORDO COLETIVO DE TRABALHO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4" name="Text Box 1029"/>
          <p:cNvSpPr/>
          <p:nvPr/>
        </p:nvSpPr>
        <p:spPr>
          <a:xfrm>
            <a:off x="76320" y="4740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 ÉTICA  NO  SENTIDO  DE  SE  PREJUDICAR  A  SI  PRÓPRIO, QUANDO FOR  O  CULPADO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Text Box 1030"/>
          <p:cNvSpPr/>
          <p:nvPr/>
        </p:nvSpPr>
        <p:spPr>
          <a:xfrm>
            <a:off x="76320" y="565452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4. ÉTICA  NO  SENTIDO  SE APERFEIÇOAR,  SE CORRIGIR, APRENDER, DESENVOLVER...  </a:t>
            </a:r>
            <a:r>
              <a:rPr b="0" lang="pt-BR" sz="2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3459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21. Basear-se em Normas Nacionais.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Quando não existir, utilizar Norma internacionai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800" y="1752480"/>
            <a:ext cx="82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22. Propor pagamento do Adicional de Insalubridade, quando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não existir medida capaz de solucionar o problema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-720" y="3124080"/>
            <a:ext cx="85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23. O Eng. de Segurança do Trabalho tem o dever de elaborar o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Plano de Trabalho, contendo cronograma de atividades e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responsabilidades para realização das medidas necessárias.</a:t>
            </a: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593640" y="42228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ff"/>
                </a:solidFill>
                <a:latin typeface="Times New Roman"/>
              </a:rPr>
              <a:t>CÓDIGO  DE  ÉTICA  PROFISSIONAL  DO  ENGENHEIRO,  DO  ARQUITETO  E  DO  ENGENHEIRO  AGRÔNOMO. 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441360" y="2606760"/>
            <a:ext cx="870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ff"/>
                </a:solidFill>
                <a:latin typeface="Times New Roman"/>
              </a:rPr>
              <a:t>REFERE-SE  A  ATRIBUIÇÃO  DA  LEI  N º 5.194  DE  24.12.66, CONFORME  RESOLUÇÃO  N º 205, DE 30.09.71 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46880" y="15228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Código de Ética Profissional do Engenheiro ( página 59)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533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1.) Interessar-se pelo bem público e com tal finalidade contribuir com seus conhecimentos, capacidade e experiência para melhor servir a humanidade.</a:t>
            </a: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0" y="1676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2.) Considerar a profissão como alto título de honra e não praticar nem  permitir a prática de atos que comprometem a sua dign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28195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3.) Não cometer ou contribuir para que se cometam injustiças contra coleg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0" y="35812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4.) Não praticar qualquer ato que, direta ou indiretamente, possa prejudicar legítimos interesses de outros profiss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43434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5.) Não solicitar nem submeter propostas contendo condições que constituam competição de preços por serviços profissionais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0" y="54514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0" y="5105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6.) Atuar dentro da melhor técnica e do mais elevado espírito público devendo, quando Consultor, limitar seus pareceres às matérias específicas que tenham sido objeto da consulta.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89080" y="0"/>
            <a:ext cx="862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7. Exercer o Trabalho com lealdade, dedicação e honestidade com seus clientes e empregadores ou chefes, e com espírito de justiça e equidade para com os contratantes e empreiteiros.   </a:t>
            </a: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89080" y="1600200"/>
            <a:ext cx="862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8. Ter sempre em vista o bem-estar e o progresso funcional dos seus empregados ou subordinados e tratá-los com retidão, justiça e humanidade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04920" y="2867040"/>
            <a:ext cx="855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9. Colocar-se a par da legislação que rege o exercício profissional da Engenharia, da Arquitetura e da Agronomia, visando a cumprí - la corretamente e colaborar para a sua atualização e aperfeiçoamento.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89080" y="4613400"/>
            <a:ext cx="88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Obs.: Vide complementação referente a “ Guia do Profissional da Engenharia, da Arquitetura, e da Agronomia para a aplicação do Código de Ética.</a:t>
            </a: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0" y="838080"/>
            <a:ext cx="97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Ética é fazer para os outros, o mesmo que desejamos para nós.</a:t>
            </a:r>
            <a:r>
              <a:rPr b="0" lang="pt-BR" sz="2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27080" y="171756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A Ética está ligada ao respeito humano, deveres e obrigaçõe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76760" y="248436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Comic Sans MS"/>
              </a:rPr>
              <a:t>Exemplos de situações não éticas: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3094200"/>
            <a:ext cx="95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Comic Sans MS"/>
              </a:rPr>
              <a:t>Não cumprir prazo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Comic Sans MS"/>
              </a:rPr>
              <a:t>Pegar a idéia de outro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Comic Sans MS"/>
              </a:rPr>
              <a:t>Tratar certas pessoas de forma diferente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Comic Sans MS"/>
              </a:rPr>
              <a:t>Ver irregularidades nas empresas, e não tomar providência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Comic Sans MS"/>
              </a:rPr>
              <a:t>Não dar atenção para certas pessoa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Comic Sans MS"/>
              </a:rPr>
              <a:t>Não atender quem te procura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Comic Sans MS"/>
              </a:rPr>
              <a:t>Não cumprir o que prometeu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Comic Sans MS"/>
              </a:rPr>
              <a:t>Não insistir no cumprimento da legislação.</a:t>
            </a:r>
            <a:r>
              <a:rPr b="0" lang="pt-BR" sz="2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Comic Sans MS"/>
              </a:rPr>
              <a:t>Não dar retorno do que foi pedido ou combinado.</a:t>
            </a:r>
            <a:r>
              <a:rPr b="0" lang="pt-BR" sz="2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176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7120" y="228600"/>
            <a:ext cx="8157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Times New Roman"/>
              </a:rPr>
              <a:t>O Engenheiro de Segurança do Trabalho, depara-se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Times New Roman"/>
              </a:rPr>
              <a:t>com uma posição sujeita a conflitos, entre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Times New Roman"/>
              </a:rPr>
              <a:t>empregadores e empregados, devendo o mesmo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Times New Roman"/>
              </a:rPr>
              <a:t>ser sempre ser justo, imparcial.</a:t>
            </a: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33520" y="2133720"/>
            <a:ext cx="85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0033"/>
                </a:solidFill>
                <a:latin typeface="Arial"/>
              </a:rPr>
              <a:t>A contratação ou a dispensa de Engenheiros de Segurança, deveria ocorrer por um comum acordo entre empregados e empregadores.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0033"/>
                </a:solidFill>
                <a:latin typeface="Arial"/>
              </a:rPr>
              <a:t>A demissão de Eng. de Segurança do Trabalho não poderia ser arbitrária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09400" y="4740120"/>
            <a:ext cx="811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Não podemos esconder uma irregularidade da empresa, devemos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sempre contribuir para o bem da comunidade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Arial"/>
              </a:rPr>
              <a:t>Código de Conduta realizado através de entidades: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Arial"/>
              </a:rPr>
              <a:t>Associação Paulista de Engenheiros e Médicos de Saúde Ocupacional CREA, DRT, Sindicato dos Engenheiros do Estado de São Paulo, e outras. 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0" y="18748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. O Eng. de Segurança do Trabalho, deve atuar na preservação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da integridade física, do patrimônio, e do meio ambiente</a:t>
            </a: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.</a:t>
            </a:r>
            <a:r>
              <a:rPr b="0" lang="pt-BR" sz="2400" spc="-1" strike="noStrike">
                <a:solidFill>
                  <a:srgbClr val="0066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0" y="263196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2. Reconhecer os riscos, trabalhar para minimizar os riscos e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eliminar desperdícios e contribuir para o aumento da produção.</a:t>
            </a: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0" y="33940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3. Nas avaliações dos Projetos, incluir a prevenção p/ comunidade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0" y="3851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4. Deve ser imparcial, com relação ao empregador e empregado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0" y="4308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5. Enviar para a “DIRETORIA” da empresa as avaliações feitas, e as medidas propostas.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0" y="502920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6. Não aceitar cargos quando for proposto acúmulo de função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0" y="5527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7. Informar aos empregados os riscos e as medidas de controle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0" y="6137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8. Realizar inspeções periódica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41400"/>
            <a:ext cx="957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9. Manter em sigilo informações confidenciais desde que não tragam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danos à integridade física dos funcionário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955800"/>
            <a:ext cx="83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0. Procurar aprimoramento dos conhecimentos profissionai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0" y="1565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1. Ser justo, nos Laudos Periciais.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0" y="194616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2. Em laudos ou relatórios, quando citar outro laudo, anexar o mesmo no seu documento.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0" y="2784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3. Quando a pedido do Juiz, realizar uma perícia, quando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comprovado insalubridade ou periculosidade, o Eng. de Seg. Trab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tem o dever de propor medidas técnicas necessárias.</a:t>
            </a: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0" y="4384800"/>
            <a:ext cx="85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4. O Eng. de Seg. Trab. Não deve apenas aceitar adicional de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insalubridade ou periculosidade...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0" y="5603760"/>
            <a:ext cx="73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5. Propor medidas de prevenção para a comunidade.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27000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6. Assessorar a empresa na responsabilidade civil e criminal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em casos de acidentes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1413000"/>
            <a:ext cx="900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7. O Eng. de Seg Trab. tem o direito de solicitar ao Conselho de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Classe Profissional um parecer técnico em caso de envolvimento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criminal por ocasião de um acidente grave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0" y="2784600"/>
            <a:ext cx="894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8. O Eng. Seg. Trab. só deverá responsabilizar-se pela empresa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na função, quando realmente exercer a função.</a:t>
            </a:r>
            <a:r>
              <a:rPr b="0" lang="pt-BR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60" y="3733920"/>
            <a:ext cx="74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19. Na sua função deve participar da prevenção desde o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planejamento / projeto de uma obra.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4917960"/>
            <a:ext cx="862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20. Nas avaliações realizadas, informar a Diretoria a realidade,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</a:rPr>
              <a:t>assim como as ações necessárias. 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11T16:01:35Z</dcterms:created>
  <dc:creator/>
  <dc:description/>
  <dc:language>en-US</dc:language>
  <cp:lastModifiedBy/>
  <dcterms:modified xsi:type="dcterms:W3CDTF">2021-07-11T16:01:41Z</dcterms:modified>
  <cp:revision>1</cp:revision>
  <dc:subject/>
  <dc:title/>
</cp:coreProperties>
</file>